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C0B-945D-4FD6-84F3-036FFB10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929-BB2B-4EB0-8683-9254DF2A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BD8-ACB2-4EDA-9F24-0DD9395C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5C3-4152-4A34-BA5F-B6AC5678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D1E-E77C-4B74-9032-352ADE25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E9D-3334-4564-8B58-F9D3F823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DAB-57A7-48E3-A097-DF587D94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EDE-4844-4C01-8465-3958A1FA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0E0-CACB-4C61-840E-0A6AF572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34A-D6B2-4967-88B2-D38C71E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F6A-9611-4BC5-95A9-798B54FA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C4C-DFDB-4E01-BFB7-BFE3A3E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DCBF-9C1C-4041-A670-EB680EC00EE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New photon detector R&amp;D for Megaton water cherencov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 2007 May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54738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46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8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70836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435640" y="5373720"/>
            <a:ext cx="3384360" cy="125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23200" y="2421000"/>
            <a:ext cx="1322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brid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9800" y="2630520"/>
            <a:ext cx="66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1844640"/>
            <a:ext cx="1625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9600" y="4724280"/>
            <a:ext cx="352908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ow noise Preamp ASIC on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+ Q-T/waveform recoder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t is difficult to finalize Mton detector system (incl. readout system) at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romise over performance 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349360"/>
            <a:ext cx="20894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360" y="4365720"/>
            <a:ext cx="580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velopment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change information of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scussion of Mton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4653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2520" y="4365720"/>
            <a:ext cx="17442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61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06520" y="5300640"/>
            <a:ext cx="2161800" cy="8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44280"/>
            <a:ext cx="547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7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88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00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69108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99cc00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651640" y="5373720"/>
            <a:ext cx="2916000" cy="107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35640" y="1125360"/>
            <a:ext cx="3708360" cy="208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13000"/>
            <a:ext cx="3454560" cy="338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00000">
            <a:off x="2916360" y="3212640"/>
            <a:ext cx="4564080" cy="936720"/>
          </a:xfrm>
          <a:prstGeom prst="leftRightArrow">
            <a:avLst>
              <a:gd name="adj1" fmla="val 50000"/>
              <a:gd name="adj2" fmla="val 969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6320" y="3141720"/>
            <a:ext cx="2872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4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&gt; 10^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28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~ 10^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FE-ASIC(MAROC2) with HPD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on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C design based on the resul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Y2008 f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 by us (collaboration between F-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7402" t="24231" r="26768" b="36105"/>
          <a:stretch/>
        </p:blipFill>
        <p:spPr>
          <a:xfrm>
            <a:off x="4952880" y="1268280"/>
            <a:ext cx="4191120" cy="2714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4941720"/>
            <a:ext cx="2016000" cy="93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8840" y="60213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ASIC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HPD but al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-pixel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071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ve manpower for AS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oss measurements decreas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Japanese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cess new technologies (AMS 0.35um process) with low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French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now-how of construction of large water cherencov detector based on S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42:01Z</dcterms:created>
  <dc:creator>KEK</dc:creator>
  <dc:description/>
  <dc:language>en-US</dc:language>
  <cp:lastModifiedBy>J.E Campagne</cp:lastModifiedBy>
  <dcterms:modified xsi:type="dcterms:W3CDTF">2007-05-09T07:29:57Z</dcterms:modified>
  <cp:revision>11</cp:revision>
  <dc:subject/>
  <dc:title>New photon detector R&amp;D</dc:title>
</cp:coreProperties>
</file>